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DDA-0AD1-4561-803A-F7E5B8E3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487-AF6E-48A7-8644-DA646E6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6EB-989B-4D5D-B2B7-206F0FAC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B5A-A2B3-493C-AB87-59CDFE57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006-A0AF-4E6A-A72B-5AB4671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A7D-43C6-40F4-BDFE-4A201A7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1DC-DF52-4BE4-9302-0CD42FCB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58A-B0AE-45F0-BF70-A9C2DCF6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237-F336-4901-82B1-7A093437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784-8F09-4138-A2AD-F7F3A55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7E3-B987-49BA-AD38-3229D04D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0DC-B927-4855-9AEE-B91D7C0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DDA-B334-4CD7-BE3F-E59E89AD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ps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box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tell how much time has passed in a word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!  Use SEE box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962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1148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8600" y="342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410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91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4038480" cy="14781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7724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49568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a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lapsed time (time gone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1:52Z</dcterms:created>
  <dc:creator> </dc:creator>
  <dc:description/>
  <dc:language>en-US</dc:language>
  <cp:lastModifiedBy> </cp:lastModifiedBy>
  <dcterms:modified xsi:type="dcterms:W3CDTF">2008-04-25T19:02:28Z</dcterms:modified>
  <cp:revision>5</cp:revision>
  <dc:subject/>
  <dc:title>Measurement</dc:title>
</cp:coreProperties>
</file>